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71A-A3D3-4288-8894-9AF8C609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107-5C54-4DC1-B322-D38491C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BBC-82CA-4CBD-B8DD-4ED46644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554-9CD5-46A2-8E1B-299156E0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E95-0F37-4D93-ACFC-14C00F57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6E23-6D1D-4DA9-806C-5EEDD052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9443-4BC2-49F3-ABBD-938919EF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1745-10DC-4222-A85A-C055BE6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2945-3768-41CF-80E5-F7BA1B97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3DD6-7C71-46DD-AF99-1981B8E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F802-F7EA-421A-8771-B0E4FFE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4CC-0358-40B4-85B4-62CEA953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950-4EDC-4ABC-9919-DB16939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FAB4-469B-46BD-9B72-D0EAD67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4C7E-0F8E-4961-81C7-0A236688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0774-C7D9-480F-917A-323AF0CA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1EFE-3486-4A4E-863B-EF406CEE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278-1D5B-4AD1-A3CA-2518040A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BA0-5488-4CA1-AD13-6D438013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BEA-6CF6-45C0-B6EF-AC7559F3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94B-1555-4FFD-BFBF-B32795CF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85A-3199-4203-BCA0-CB05DB1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5B3-FB58-4D63-9DE5-5AA2083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C10-7683-444D-B2F0-1B8A9BB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F36-CADA-4F73-9B1A-385D8923CA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CE2-BE08-4B7E-B5AD-B678A971C3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tare angr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tare  Antonym: l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lar-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167440" y="1768320"/>
            <a:ext cx="2654280" cy="39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y te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some body that tell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Story- t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591080" y="1600200"/>
            <a:ext cx="24778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2:13Z</dcterms:modified>
  <cp:revision>3</cp:revision>
  <dc:subject/>
  <dc:title>PowerPoint Presentation</dc:title>
</cp:coreProperties>
</file>